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2A5-C2F9-44C6-8123-2349B60D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5E9-35B6-4744-BB71-7E0AFDC9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B71-6498-45B6-87EB-105B93D0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934-A8B3-4F55-A84D-83FE8620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AA1-9358-4F9E-A1C4-F63EEA55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B21-249F-4FEC-AFF1-69CD2DD1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A11-C5BE-4F17-8275-B21C7534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A7C-004F-4246-A4F7-CE253270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F78-94DB-42E8-846E-B32CC390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1BD-5024-4661-B60E-F06259C0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9C0-93A6-46C3-ACEE-FE521A56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C30-27AF-4943-BE4A-6CB1F15F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A71D-E235-445B-A01A-3BC617D686A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060"/>
                </a:solidFill>
                <a:latin typeface="Verdana"/>
                <a:ea typeface="Verdana"/>
              </a:rPr>
              <a:t>Propósito #77B:</a:t>
            </a:r>
            <a:r>
              <a:rPr b="0" lang="es-ES_tradnl" sz="2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Verdana"/>
              </a:rPr>
              <a:t>¿Cuál es tu pasatiempo favorito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6b18"/>
                </a:solidFill>
                <a:latin typeface="Verdana"/>
                <a:ea typeface="Verdana"/>
              </a:rPr>
              <a:t>L.O.- to review the preterit and the vocabulary for the ex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060"/>
                </a:solidFill>
                <a:latin typeface="Verdana"/>
                <a:ea typeface="Verdana"/>
              </a:rPr>
              <a:t>Actividad Inicial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Verdana"/>
              </a:rPr>
              <a:t>Copia y responde a las preguntas </a:t>
            </a:r>
            <a:r>
              <a:rPr b="1" lang="es-ES_tradnl" sz="2600" spc="-1" strike="noStrike">
                <a:solidFill>
                  <a:srgbClr val="000000"/>
                </a:solidFill>
                <a:latin typeface="Verdana"/>
                <a:ea typeface="Verdana"/>
              </a:rPr>
              <a:t>(2 minutos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060"/>
                </a:solidFill>
                <a:latin typeface="Verdana"/>
                <a:ea typeface="Verdana"/>
              </a:rPr>
              <a:t>1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Verdana"/>
              </a:rPr>
              <a:t> ¿Qué te gusta hacer en tu tiempo libr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2060"/>
                </a:solidFill>
                <a:latin typeface="Verdana"/>
                <a:ea typeface="Verdana"/>
              </a:rPr>
              <a:t>2.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Verdana"/>
              </a:rPr>
              <a:t>¿Qué te gusta más, el museo, las fiestas de cumpleaños, los conciertos o el cin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43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6b18"/>
                </a:solidFill>
                <a:latin typeface="Verdana"/>
                <a:ea typeface="Verdana"/>
              </a:rPr>
              <a:t>Me llamo _________ Clase 801</a:t>
            </a:r>
            <a:br>
              <a:rPr sz="3200"/>
            </a:br>
            <a:r>
              <a:rPr b="1" lang="en-US" sz="3200" spc="-1" strike="noStrike">
                <a:solidFill>
                  <a:srgbClr val="0f6b18"/>
                </a:solidFill>
                <a:latin typeface="Verdana"/>
                <a:ea typeface="Verdana"/>
              </a:rPr>
              <a:t>la fecha es el 11 de mayo del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6"/>
          <p:cNvSpPr/>
          <p:nvPr/>
        </p:nvSpPr>
        <p:spPr>
          <a:xfrm>
            <a:off x="1295280" y="380880"/>
            <a:ext cx="701064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2060"/>
                </a:solidFill>
                <a:latin typeface="Verdana"/>
                <a:ea typeface="Arial"/>
              </a:rPr>
              <a:t>Tiquete de salid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Arial"/>
              </a:rPr>
              <a:t>Responde a la pregun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Arial"/>
              </a:rPr>
              <a:t>¿Qué lugares visitaste el verano pasa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371600" y="228600"/>
            <a:ext cx="7010280" cy="32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2060"/>
                </a:solidFill>
                <a:latin typeface="Verdana"/>
                <a:ea typeface="Arial"/>
              </a:rPr>
              <a:t>Tarea #77B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Arial"/>
              </a:rPr>
              <a:t>Responde a la pregun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Arial"/>
              </a:rPr>
              <a:t>Escribe un párrafo de 4 oraciones en el 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  <a:ea typeface="Arial"/>
              </a:rPr>
              <a:t>pretérito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Arial"/>
              </a:rPr>
              <a:t>. Escribe los lugares que visitaste y las cosas que hiciste el verano pas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0" y="0"/>
            <a:ext cx="9144000" cy="66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1" lang="es-MX" sz="2400" spc="-1" strike="noStrike">
                <a:solidFill>
                  <a:srgbClr val="00206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¿A quién oyeron cantar en el concierto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¿Qué lugar visitaron en la ciudad de México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¿Qué película vieron en el cin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¿Qué rompieron en la fiesta de cumpleaño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¿Qué vieron en el museo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0"/>
            <a:ext cx="9144000" cy="1495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Los amigos de Ana visitaron muchos lugares el verano pasado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Observa las imágenes y responde a las preguntas </a:t>
            </a:r>
            <a:r>
              <a:rPr b="1" lang="es-MX" sz="2300" spc="-1" strike="noStrike">
                <a:solidFill>
                  <a:srgbClr val="000000"/>
                </a:solidFill>
                <a:latin typeface="Verdana"/>
              </a:rPr>
              <a:t>usando el</a:t>
            </a: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MX" sz="2300" spc="-1" strike="noStrike">
                <a:solidFill>
                  <a:srgbClr val="000000"/>
                </a:solidFill>
                <a:latin typeface="Verdana"/>
              </a:rPr>
              <a:t>pretérito (4 minutos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9" descr="Image result for enrique iglesias concierto"/>
          <p:cNvPicPr/>
          <p:nvPr/>
        </p:nvPicPr>
        <p:blipFill>
          <a:blip r:embed="rId1"/>
          <a:stretch/>
        </p:blipFill>
        <p:spPr>
          <a:xfrm>
            <a:off x="0" y="1828800"/>
            <a:ext cx="1800360" cy="1981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Related image"/>
          <p:cNvPicPr/>
          <p:nvPr/>
        </p:nvPicPr>
        <p:blipFill>
          <a:blip r:embed="rId2"/>
          <a:stretch/>
        </p:blipFill>
        <p:spPr>
          <a:xfrm>
            <a:off x="1905120" y="1828800"/>
            <a:ext cx="181908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Image result for bajo la misma luna"/>
          <p:cNvPicPr/>
          <p:nvPr/>
        </p:nvPicPr>
        <p:blipFill>
          <a:blip r:embed="rId3"/>
          <a:stretch/>
        </p:blipFill>
        <p:spPr>
          <a:xfrm>
            <a:off x="3809880" y="182880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pinata-smashed.jpg"/>
          <p:cNvPicPr/>
          <p:nvPr/>
        </p:nvPicPr>
        <p:blipFill>
          <a:blip r:embed="rId4"/>
          <a:stretch/>
        </p:blipFill>
        <p:spPr>
          <a:xfrm>
            <a:off x="5638680" y="1828800"/>
            <a:ext cx="1762200" cy="198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Cargador de flores 1935.jpg"/>
          <p:cNvPicPr/>
          <p:nvPr/>
        </p:nvPicPr>
        <p:blipFill>
          <a:blip r:embed="rId5"/>
          <a:stretch/>
        </p:blipFill>
        <p:spPr>
          <a:xfrm>
            <a:off x="7543800" y="1828800"/>
            <a:ext cx="1600200" cy="1981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0" y="1828800"/>
            <a:ext cx="3808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Box 17"/>
          <p:cNvSpPr/>
          <p:nvPr/>
        </p:nvSpPr>
        <p:spPr>
          <a:xfrm>
            <a:off x="1905120" y="1828800"/>
            <a:ext cx="3808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3809880" y="1828800"/>
            <a:ext cx="3812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5638680" y="1828800"/>
            <a:ext cx="3812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543800" y="1828800"/>
            <a:ext cx="3808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19234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verano pasado visitaste muchos lugares con tu famil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egunta a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uno de tus compañeros(as)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las preguntas de la gráfica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(3 minuto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spués responde a las preguntas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usando el pretéri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3 minut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0" y="1981080"/>
            <a:ext cx="3505320" cy="160020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¿Qué canciones oíste en el concierto de Jennifer López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5791320" y="1981080"/>
            <a:ext cx="3352680" cy="16002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¿Qué película viste en el cine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___________________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2895480" y="3657600"/>
            <a:ext cx="3505320" cy="13716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¿Qué lugares visitaste en la Ciudad de México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5791320" y="5105520"/>
            <a:ext cx="3352680" cy="1752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¿Qué viste en el Museo Nacional de Arte en México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___________________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0" y="5105520"/>
            <a:ext cx="3352680" cy="175248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¿Qué comiste en una fiesta de cumpleaños en Latinoamérica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___________________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Mi lugar o evento favori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ee y responda a las preguntas 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(3 minuto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cribe de tu lugar o evento favori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457200" y="4343400"/>
            <a:ext cx="3505320" cy="175248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¿Qué haces en tu lugar o evento favorito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2590920" y="1676520"/>
            <a:ext cx="4343400" cy="23619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¿Cuál es tu lugar o evento favorito, el cine, el concierto, el museo o la fiesta de cumpleaño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5486400" y="4267080"/>
            <a:ext cx="3352680" cy="175284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¿Qué ves en tu lugar o evento favorito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0" y="1600200"/>
            <a:ext cx="9144000" cy="3507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  <a:ea typeface="Arial"/>
              </a:rPr>
              <a:t>Presenta t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  <a:ea typeface="Arial"/>
              </a:rPr>
              <a:t>lugar o evento favorit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l concier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Picture 5" descr="Image result for concierto"/>
          <p:cNvPicPr/>
          <p:nvPr/>
        </p:nvPicPr>
        <p:blipFill>
          <a:blip r:embed="rId1"/>
          <a:stretch/>
        </p:blipFill>
        <p:spPr>
          <a:xfrm>
            <a:off x="1295280" y="1752480"/>
            <a:ext cx="66121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0000"/>
                </a:solidFill>
                <a:latin typeface="Verdana"/>
              </a:rPr>
              <a:t>La fiesta de cumpleañ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" descr="16387021_10211655359117008_6488642320389780467_n.jpg"/>
          <p:cNvPicPr/>
          <p:nvPr/>
        </p:nvPicPr>
        <p:blipFill>
          <a:blip r:embed="rId1"/>
          <a:stretch/>
        </p:blipFill>
        <p:spPr>
          <a:xfrm>
            <a:off x="1523880" y="1828800"/>
            <a:ext cx="632484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solidFill>
            <a:srgbClr val="dcb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El mus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Picture 4" descr="Image result for museo nacional de arte mexico"/>
          <p:cNvPicPr/>
          <p:nvPr/>
        </p:nvPicPr>
        <p:blipFill>
          <a:blip r:embed="rId1"/>
          <a:stretch/>
        </p:blipFill>
        <p:spPr>
          <a:xfrm>
            <a:off x="990720" y="205740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l c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Picture 5" descr="Image result for bajo la misma luna"/>
          <p:cNvPicPr/>
          <p:nvPr/>
        </p:nvPicPr>
        <p:blipFill>
          <a:blip r:embed="rId1"/>
          <a:stretch/>
        </p:blipFill>
        <p:spPr>
          <a:xfrm>
            <a:off x="2743200" y="1523880"/>
            <a:ext cx="34862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4:22:14Z</dcterms:created>
  <dc:creator>Helen Zumaeta</dc:creator>
  <dc:description/>
  <dc:language>en-US</dc:language>
  <cp:lastModifiedBy>Helen Zumaeta</cp:lastModifiedBy>
  <cp:lastPrinted>2016-04-04T13:24:46Z</cp:lastPrinted>
  <dcterms:modified xsi:type="dcterms:W3CDTF">2017-05-11T15:13:25Z</dcterms:modified>
  <cp:revision>150</cp:revision>
  <dc:subject/>
  <dc:title>Me llamo ______ Clase 8im la fecha es el1 5 de noviembre del 2012</dc:title>
</cp:coreProperties>
</file>